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DCDA-6403-44E8-AEF8-064C3A40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BBAF-6891-437F-B414-31F250CA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B24-45F3-4D22-ABF0-796BAED3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F14-5400-4711-95D1-664CB958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B326-1EE2-444C-B0CA-7C008C38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709-2DB1-4199-89A8-7F59344B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1B7-465A-4CAC-B447-9C9646E5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BFD7-1BEB-4143-B5C2-8051C334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5615-A5E0-42F0-8D34-B1E87EA2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907-6C9D-4A4D-B66B-0CC7CCF7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037A-8DB5-4074-A6BB-561AFB67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6FA2-8A1D-4CC2-A99D-316C365B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C0A4-6878-4690-AAEE-B1824BBFC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2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endshow"/>
          </p:cNvPr>
          <p:cNvSpPr/>
          <p:nvPr/>
        </p:nvSpPr>
        <p:spPr>
          <a:xfrm>
            <a:off x="7451640" y="6669000"/>
            <a:ext cx="432000" cy="189000"/>
          </a:xfrm>
          <a:custGeom>
            <a:avLst/>
            <a:gdLst>
              <a:gd name="textAreaLeft" fmla="*/ 12240 w 432000"/>
              <a:gd name="textAreaRight" fmla="*/ 419760 w 432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9319" h="21600">
                <a:moveTo>
                  <a:pt x="0" y="0"/>
                </a:moveTo>
                <a:lnTo>
                  <a:pt x="49319" y="0"/>
                </a:lnTo>
                <a:lnTo>
                  <a:pt x="49319" y="21600"/>
                </a:lnTo>
                <a:lnTo>
                  <a:pt x="0" y="21600"/>
                </a:lnTo>
                <a:close/>
              </a:path>
              <a:path fill="lightenLess" w="49319" h="21600">
                <a:moveTo>
                  <a:pt x="0" y="0"/>
                </a:moveTo>
                <a:lnTo>
                  <a:pt x="49319" y="0"/>
                </a:lnTo>
                <a:lnTo>
                  <a:pt x="47919" y="1400"/>
                </a:lnTo>
                <a:lnTo>
                  <a:pt x="1400" y="1400"/>
                </a:lnTo>
                <a:close/>
              </a:path>
              <a:path fill="darken" w="49319" h="21600">
                <a:moveTo>
                  <a:pt x="49319" y="0"/>
                </a:moveTo>
                <a:lnTo>
                  <a:pt x="49319" y="21600"/>
                </a:lnTo>
                <a:lnTo>
                  <a:pt x="47919" y="20200"/>
                </a:lnTo>
                <a:lnTo>
                  <a:pt x="47919" y="1400"/>
                </a:lnTo>
                <a:close/>
              </a:path>
              <a:path fill="darkenLess" w="49319" h="21600">
                <a:moveTo>
                  <a:pt x="4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19" y="20200"/>
                </a:lnTo>
                <a:close/>
              </a:path>
              <a:path fill="lighten" w="4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1640" y="2781360"/>
            <a:ext cx="4464000" cy="2449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ccff33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Лекция №6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17720" cy="47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4000" y="333360"/>
            <a:ext cx="81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ислительно-восстановительные  реакции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03B-08CE-4CC5-B91D-18131C6FDC6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0"/>
            <a:ext cx="82296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ажнейшие восстановители и окисл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0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4FF1-9E5C-4AF8-B594-0E51BC8908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Элементы в промежуточной степени окисления. H2+O–2. 2О– +2е?2О-2. H2+O2–. 2О– -2е? О20. О20. S+4 +6e ? S–2. Na2S–2. Na2S+4O3. S0. S+4 +4e ? S0. S+4 – 2e ? S+6. Na2S+6O4."/>
          <p:cNvPicPr/>
          <p:nvPr/>
        </p:nvPicPr>
        <p:blipFill>
          <a:blip r:embed="rId1"/>
          <a:srcRect l="0" t="6593" r="0" b="8973"/>
          <a:stretch/>
        </p:blipFill>
        <p:spPr>
          <a:xfrm>
            <a:off x="32400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6E56-73D2-4684-A9C6-211E7BF406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Типы ОВР. 2сu0 +O20? 2cu2+o2–. 3H2S?2 +H2S+6O4 ? 4S0 + 4H2O. 6KI? + 4H2S+6O4 ? 3I20+S0 +3K2SO4+4H2O. (N–3H4)2Cr2+6O7 (t0) ? N20 + Cr2+3O3 + 4H2O. 2NaN+5O3–2 ? 2NaN+3O2 + O20. Межмолекулярные. Внутримолекулярные. Диспропорционирование. KCl+5O3–2 ? 2KCl– + 3O20. 4KCl+5O3?KCl?+3KCl+7O4. Cl20 + 2KOH ? KCl? +KCl+1O +H2O. 4Na2S+4O3 ? Na2S?2 + 3Na2S+6O4."/>
          <p:cNvPicPr/>
          <p:nvPr/>
        </p:nvPicPr>
        <p:blipFill>
          <a:blip r:embed="rId1"/>
          <a:srcRect l="0" t="4367" r="0" b="6747"/>
          <a:stretch/>
        </p:blipFill>
        <p:spPr>
          <a:xfrm>
            <a:off x="684360" y="12398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2560" y="25848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D943-E9C1-49AC-A8FE-B7ACE9DB22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Межмолекулярные окислительно-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ислитель и восстановитель находятся в разных веществах; обмен электронами в этих реакциях происходит между различными атомами или 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7960" y="219600"/>
            <a:ext cx="7790400" cy="1319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6042240" cy="216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516640"/>
            <a:ext cx="78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юда же относятся реакции между веществами, в которых атомы одного и того же элемента имеют разные степени ок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29928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9E9-F0A2-4258-9FA8-F4B64A20B9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нутримолекулярные окислительно- 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268280"/>
            <a:ext cx="8569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утримолекуляр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ях окислитель и восстановитель находя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одной и той 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имолекулярные реакции протекают, как правило,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рмическом разложе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, содержащих окислитель и восстанов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70120"/>
            <a:ext cx="914400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6A7D-FD5F-4F59-8542-1B886990FF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Диспропорционирован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ая реакция, в которой один элемент одновременно повышает и понижает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07000"/>
            <a:ext cx="9144000" cy="140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7FB-4E1F-4EA2-B91B-85C784F6B4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       Электронный балан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нахождения коэффициентов в уравнениях окислительно-восстановительных реакций, в котором рассматривается обмен электронами между атомами элементов, изменяющих свою степень ок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исло электронов, отданное восстановителем, равно числу электронов, получаемых окисл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5400" y="4528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DF3-01FD-420F-8EC1-2425DA9D34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640"/>
            <a:ext cx="80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ом электронного баланса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17733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равнени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ей окислен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томов в исходных веществах и продуктах реакции и на балансировании числа электронов, смещенных от  восстановителя к окисл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ля составления уравнений реакций, протекающих в любых ф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достаток мет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82E-8F73-4292-8CE6-71B73B7411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20640"/>
            <a:ext cx="9144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ить схему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степени окисления элементов в реагентах и продуктах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является реакция окислительно-восстановительной или она протекает без изменения степеней окисления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черкнуть элементы, степени окисления которых из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какой элемент окисляется (его степень окисления повышается) и какой элемент восстанавливается (его степень окисления понижается) в процесс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левой части схемы обозначить с помощью стрелок процесс окисления (смещение электронов от атома элемента) и процесс восстановления (смещение электронов к атому элемен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восстановитель и окисл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лансировать число электронов между окислителем и восстанов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коэффициенты для окислителя и восстановителя, продуктов окисления и восстан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исать коэффициент перед формулой вещества, определяющего среду раст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верить уравнени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37640" cy="3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4C6-65BA-4E4B-B6C4-60D3E39B24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135080"/>
            <a:ext cx="6696000" cy="572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24960" y="156600"/>
            <a:ext cx="7916400" cy="9410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6FA-BEC1-4343-B6B8-D8F2B70917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9000"/>
            <a:ext cx="8497800" cy="1511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981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236000" y="6669000"/>
            <a:ext cx="649080" cy="189000"/>
          </a:xfrm>
          <a:custGeom>
            <a:avLst/>
            <a:gdLst>
              <a:gd name="textAreaLeft" fmla="*/ 12240 w 649080"/>
              <a:gd name="textAreaRight" fmla="*/ 636840 w 6490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4081" h="21600">
                <a:moveTo>
                  <a:pt x="0" y="0"/>
                </a:moveTo>
                <a:lnTo>
                  <a:pt x="74081" y="0"/>
                </a:lnTo>
                <a:lnTo>
                  <a:pt x="74081" y="21600"/>
                </a:lnTo>
                <a:lnTo>
                  <a:pt x="0" y="21600"/>
                </a:lnTo>
                <a:close/>
              </a:path>
              <a:path fill="lightenLess" w="74081" h="21600">
                <a:moveTo>
                  <a:pt x="0" y="0"/>
                </a:moveTo>
                <a:lnTo>
                  <a:pt x="74081" y="0"/>
                </a:lnTo>
                <a:lnTo>
                  <a:pt x="72681" y="1400"/>
                </a:lnTo>
                <a:lnTo>
                  <a:pt x="1400" y="1400"/>
                </a:lnTo>
                <a:close/>
              </a:path>
              <a:path fill="darken" w="74081" h="21600">
                <a:moveTo>
                  <a:pt x="74081" y="0"/>
                </a:moveTo>
                <a:lnTo>
                  <a:pt x="74081" y="21600"/>
                </a:lnTo>
                <a:lnTo>
                  <a:pt x="72681" y="20200"/>
                </a:lnTo>
                <a:lnTo>
                  <a:pt x="72681" y="1400"/>
                </a:lnTo>
                <a:close/>
              </a:path>
              <a:path fill="darkenLess" w="74081" h="21600">
                <a:moveTo>
                  <a:pt x="7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81" y="20200"/>
                </a:lnTo>
                <a:close/>
              </a:path>
              <a:path fill="lighten" w="7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081" h="21600">
                <a:moveTo>
                  <a:pt x="30034" y="10800"/>
                </a:moveTo>
                <a:lnTo>
                  <a:pt x="44047" y="3794"/>
                </a:lnTo>
                <a:lnTo>
                  <a:pt x="44047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6588000" y="6669000"/>
            <a:ext cx="648000" cy="189000"/>
          </a:xfrm>
          <a:custGeom>
            <a:avLst/>
            <a:gdLst>
              <a:gd name="textAreaLeft" fmla="*/ 12240 w 648000"/>
              <a:gd name="textAreaRight" fmla="*/ 635760 w 648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57" h="21600">
                <a:moveTo>
                  <a:pt x="0" y="0"/>
                </a:moveTo>
                <a:lnTo>
                  <a:pt x="73957" y="0"/>
                </a:lnTo>
                <a:lnTo>
                  <a:pt x="73957" y="21600"/>
                </a:lnTo>
                <a:lnTo>
                  <a:pt x="0" y="21600"/>
                </a:lnTo>
                <a:close/>
              </a:path>
              <a:path fill="lightenLess" w="73957" h="21600">
                <a:moveTo>
                  <a:pt x="0" y="0"/>
                </a:moveTo>
                <a:lnTo>
                  <a:pt x="73957" y="0"/>
                </a:lnTo>
                <a:lnTo>
                  <a:pt x="72557" y="1400"/>
                </a:lnTo>
                <a:lnTo>
                  <a:pt x="1400" y="1400"/>
                </a:lnTo>
                <a:close/>
              </a:path>
              <a:path fill="darken" w="73957" h="21600">
                <a:moveTo>
                  <a:pt x="73957" y="0"/>
                </a:moveTo>
                <a:lnTo>
                  <a:pt x="73957" y="21600"/>
                </a:lnTo>
                <a:lnTo>
                  <a:pt x="72557" y="20200"/>
                </a:lnTo>
                <a:lnTo>
                  <a:pt x="72557" y="1400"/>
                </a:lnTo>
                <a:close/>
              </a:path>
              <a:path fill="darkenLess" w="73957" h="21600">
                <a:moveTo>
                  <a:pt x="7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57" y="20200"/>
                </a:lnTo>
                <a:close/>
              </a:path>
              <a:path fill="lighten" w="7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условный заряд атома в молекуле, вычисленный в предположении, что молекула состоит из ионов и в целом электронейтра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электроотрицательные элементы в соединении имеют отрицательные степени окисления, а атомы элементов с меньшей электроотрицательностью - положи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окисления - формальное понятие; в ряде случаев степень окисления не совпадает с валент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4394160"/>
            <a:ext cx="7345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гидраз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окисления азота – -2; валентность азота –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51280" y="5084640"/>
            <a:ext cx="1440000" cy="6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29DA-8264-4599-B498-F30B0381108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      Электронно-ионный баланс (метод полуреакций)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од нахождения коэффициентов, в котор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ся обмен электронами между ионами в растворе с учетом характера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6560" y="4384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2768-8E42-4163-8619-A62E393783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333360"/>
            <a:ext cx="770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уреакций или ионно-электронным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135000" y="2060640"/>
            <a:ext cx="888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выражения сущности окислительно-восстанов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ьных реакций 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Достоинство мет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В электронно-ионных уравнениях полуреакций записываются ионы, ре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щие в водном растворе, а не условные час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использовании этого метода не нужно знать все вещества: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2B3E-3286-416A-9244-253ACADAA0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9360"/>
            <a:ext cx="90327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писываем ионную схему процесса, которая включает только восстановитель и продукт его окисления и окислитель и продукт его восстановления: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+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&gt;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окис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восстанов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ē -&gt;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м уравнения полуреакций так, чтобы число электронов между окислителем и  восстановителем было сбалансиров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ē-&gt;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ируем почленно уравнения полуреакций. Составляем общее ионное уравнение реакци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 правильность составления уравнения реакции в ионном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исло атомов элементов должно быть равно в левой и в правой частях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общий заряд частиц в левой и правой частях ионного уравнения должен быть оди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писываем уравнение в молекулярной форме. Для этого добавляем к ионам, входящим в ионное уравнение, необходимое число ионов противоположного заряд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+ 4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Zn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94836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15920"/>
            <a:ext cx="8086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составления уравнения ОВР методом полуреакций</a:t>
            </a:r>
            <a:endParaRPr b="1" lang="en-US" sz="24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0D35-C4E3-4A9A-B239-FA4AC993FE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ИЯНИЕ СРЕДЫ НА ПРОТЕКАНИЕ ОКИСЛИТЕЛЬНО-ВОССТАНО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133720"/>
          <a:ext cx="8351640" cy="3419280"/>
        </p:xfrm>
        <a:graphic>
          <a:graphicData uri="http://schemas.openxmlformats.org/drawingml/2006/table">
            <a:tbl>
              <a:tblPr/>
              <a:tblGrid>
                <a:gridCol w="1942920"/>
                <a:gridCol w="3024360"/>
                <a:gridCol w="33843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Ы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1D5-ABCA-471C-982D-79A151BABB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кции с участием перманганата калия в качестве окислите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1840" y="402840"/>
            <a:ext cx="823320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2060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кисл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280360" cy="3466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2637000"/>
            <a:ext cx="741672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кислой среде кислород отдают молекулы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 связывается он ионами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07E-9B01-4CA3-9E10-438E96128A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нейтраль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3120" y="402840"/>
            <a:ext cx="84124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60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19740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олетовый раств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сле окончания реакции обесцвечивается и наблюдается выпадение бурого ос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3360"/>
            <a:ext cx="756108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нейтральной среде добавление и свя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томов кислорода осуществляется только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AB92-9C67-4F11-A154-A024B32510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1341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щелоч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389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1989000"/>
            <a:ext cx="7416720" cy="649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В щелочной среде кислород предоставляют ионы ОН</a:t>
            </a:r>
            <a:r>
              <a:rPr b="1" i="1" lang="en-US" sz="1800" spc="-1" strike="noStrike">
                <a:solidFill>
                  <a:srgbClr val="ccff33"/>
                </a:solidFill>
                <a:latin typeface="Arial"/>
                <a:ea typeface="Arial"/>
              </a:rPr>
              <a:t>¯</a:t>
            </a: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а связывается он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8F3-AB82-4316-A6BB-89CE5B592D0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A4C-EAC8-45ED-97F2-3EE7EBAB73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веществ, содержащих в своем составе элементы в промежуточных степенях окисления о направлении реакции судят по окислительно-восстановительными потенциалами, которые характеризуют работу, затрачиваемую на отрыв электронов при переходе вещества из восстановленной формы в окисленну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 </a:t>
            </a:r>
            <a:r>
              <a:rPr b="1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φ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енная характеристика окислительно-восстановительной п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CED2-4608-4DB3-AC9F-9120B78E8C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таблице потенциалов определяют потенциалы окислителя и восстанов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ят их алгебраическую 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то процесс 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 то процесс не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0, то химическое равновес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акция будет протекать в том случае, если окислительно-восстановительный потенциал окислителя выше, чем восстановителя, а их разница больше н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Примечание. Во всех справочниках </a:t>
            </a:r>
            <a:r>
              <a:rPr b="1" lang="el-GR" sz="1600" spc="-1" strike="noStrike">
                <a:solidFill>
                  <a:srgbClr val="ff6600"/>
                </a:solidFill>
                <a:latin typeface="Arial"/>
                <a:ea typeface="Arial"/>
              </a:rPr>
              <a:t>φ</a:t>
            </a:r>
            <a:r>
              <a:rPr b="1" lang="ru-RU" sz="1600" spc="-1" strike="noStrike" baseline="30000">
                <a:solidFill>
                  <a:srgbClr val="ff6600"/>
                </a:solidFill>
                <a:latin typeface="Arial"/>
                <a:ea typeface="Arial"/>
              </a:rPr>
              <a:t>0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указаны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для окисл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Для восстановителей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берут процесс в </a:t>
            </a:r>
            <a:r>
              <a:rPr b="1" i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обратном направлении с противоположным зна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9FF9-0264-4C64-B50A-AF92E1EE0A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ля вычисления степени окисления элемента следует учитывать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  Степени окисления атомов в простых веществах равны нулю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 Постоянную степень окисления имеют ато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ых металлов (+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оземельных металлов (+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а (+1) (кроме гидрид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, где степень окисления водорода -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а (-2) (кро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оксидов, содержащих группу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, в которой степень окисления кислорода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86B7-2DF5-461C-A869-C0EF1E5A04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Возможен ли процесс: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u +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FeCl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→</a:t>
            </a:r>
            <a:r>
              <a:rPr b="1" lang="ru-RU" sz="3200" spc="-1" strike="noStrike">
                <a:solidFill>
                  <a:srgbClr val="663300"/>
                </a:solidFill>
                <a:latin typeface="Arial Narrow"/>
              </a:rPr>
              <a:t>? 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исывают из справочника все вариа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2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2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34 B  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1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52 B  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77 B  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3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33 B  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дет тот процесс, где алгебраическая сумма потенциалов наибольшая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му условию удовлетворяют варианты 1 и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+ 2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8603-D9F3-4E27-BAE1-62201A9EBDE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440"/>
            <a:ext cx="7344000" cy="685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3C52-CE7F-4F39-B111-EC9A6ADDA3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920" y="33156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13000"/>
            <a:ext cx="80978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    Алгебраическая сумма степеней окисления всех атомов, входящих в состав молекулы, всегда равна нулю, а в сложном ионе эта сумма равна заряду 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  Для элементов положительная степень окисления не может превышать величину, равную номеру группы периодическ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1A6-C18C-4360-981F-2CB08C7964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28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уществует два типа химических реа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и, в которых не изменяется степень окисления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CuO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 +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8D2-41E2-4783-8C8D-78040F2317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и, в которых происходит изменение степеней окисления атомов элементов, входящих в состав реагирующих соеди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реакции называются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ительно - восстанови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9640" y="180000"/>
            <a:ext cx="7869600" cy="1080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6AF5-1F59-4F39-BD2F-9DEF7C0CAF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16760" y="177120"/>
            <a:ext cx="7875360" cy="10634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кисление, восстановлени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ислительно-восстановительных реакциях электроны от одних атомов, молекул или ионов переходят к другим. Процесс отдачи электронов -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окислении степень окисления повыш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3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ē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2857320" cy="18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815-1EE4-4558-BC3A-75A612E213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исоединения электронов –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восстановлени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осстановлении степень окисления по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или ионы, которые в данной реакции присоединяют электроны являютс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окисл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оторые отдают электроны -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осстанов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285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31C2-6571-4D9D-A226-0106359984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3680" y="175320"/>
            <a:ext cx="7878960" cy="10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е свойства вещества и степени окисления входящих в него атом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457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ения, содержащие атомы элементов с максимальной степенью окисления, могут быть только окислителями за счет этих атомов, т.к. они уже отдали все свои валентные электроны и способны только принимать элект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тепень окисления атома элемента равна номеру группы в периодической таблице, к которой относится дан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оединения, содержащие атомы элементов с минимальной степенью окисления, могут служить только восстановителями, поскольку они способны лишь отдавать электроны, потому, что внешний энергетический уровень у таких атомов завершен восемью электрон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инимальная степень окисления у атомов металлов равна 0, для неметаллов - (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–8) (где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- номер группы в периодической систем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единения, содержащие атомы элементов с промежуточной степенью окисления, могут быть и окислителями и восстановителями, в зависимости от партнера, с которым взаимодействуют и от условий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44C-1FBC-4E0D-A4B2-F10FF17640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2:50:36Z</dcterms:created>
  <dc:creator>Юля</dc:creator>
  <dc:description/>
  <dc:language>en-US</dc:language>
  <cp:lastModifiedBy>User</cp:lastModifiedBy>
  <dcterms:modified xsi:type="dcterms:W3CDTF">2011-11-30T10:37:33Z</dcterms:modified>
  <cp:revision>38</cp:revision>
  <dc:subject/>
  <dc:title>Слайд 1</dc:title>
</cp:coreProperties>
</file>